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BAFA-20A1-4F42-8FCA-5183A2BF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B852A-EA65-4E3A-A782-6A25A710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BE95-E95F-4F54-9511-F9786CA3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BE0F3-9E15-4D30-9EC3-1155ECAA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D2E2-1B64-4C1E-A51F-1D3EAE5D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0FC4-69ED-46F1-8CF2-B47B3552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E681-A246-4AF8-B755-CD1F904D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1ACD-FFF6-4380-BF5B-C12F5D6F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4FFF-4442-498C-8277-F0C14580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8384-DD03-4700-95D6-66FF6B1E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9D62-6D29-468E-BE09-0DA7D5A2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62280-68FF-4F58-B933-B10658AA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045B-CD87-4FFD-B6C8-E6975038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E3D9-766D-4C60-9891-A4DA6C76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A308-BA11-4586-9A57-ED4612D6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37D1-7492-41CB-A475-71C140BF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D61D-84A7-4BA1-9D68-4DF07C5D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4F2EE-EE4E-4599-9791-817C1E7E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6121A-E028-4486-9CE4-598C9B6C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92CA5-D0E5-4B56-939D-D8CED56A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7A76-400B-4D2E-A17C-F85E8EA2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ECCA2-0492-4648-AEE0-7D4BCF9D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65981-0E6A-471D-827C-C15943E9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CEC26-E56B-4099-9C31-ED0AD3BB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872A-FB44-481F-85C8-5D5B500D06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657B-E2AC-48D7-85B2-885A155055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ff"/>
                </a:solidFill>
                <a:latin typeface="Arial"/>
              </a:rPr>
              <a:t>Me llamo _______               Clase 802</a:t>
            </a:r>
            <a:br>
              <a:rPr sz="3800"/>
            </a:br>
            <a:r>
              <a:rPr b="0" lang="en-US" sz="3800" spc="-1" strike="noStrike">
                <a:solidFill>
                  <a:srgbClr val="9999ff"/>
                </a:solidFill>
                <a:latin typeface="Arial"/>
              </a:rPr>
              <a:t>La fecha es el 8 de abril del 20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Propósito # 67a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comiste para el almuerz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92d050"/>
                </a:solidFill>
                <a:latin typeface="Arial"/>
              </a:rPr>
              <a:t>L.O: to learn the use &amp; form of preterite -ER/-I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Actividad Inicial: </a:t>
            </a:r>
            <a:r>
              <a:rPr b="0" lang="es-ES_tradnl" sz="3200" spc="-1" strike="noStrike">
                <a:solidFill>
                  <a:srgbClr val="3333ff"/>
                </a:solidFill>
                <a:latin typeface="Arial"/>
              </a:rPr>
              <a:t>TOMAR </a:t>
            </a:r>
            <a:r>
              <a:rPr b="0" lang="es-ES_tradnl" sz="3200" spc="-1" strike="noStrike" u="sng">
                <a:solidFill>
                  <a:srgbClr val="3333ff"/>
                </a:solidFill>
                <a:uFillTx/>
                <a:latin typeface="Arial"/>
              </a:rPr>
              <a:t>QUIZ ½: Cap.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Fuiste al cine durante el fin de sem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Miraste una pelic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pelicula miras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tipo de pelicula f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66"/>
                </a:solidFill>
                <a:latin typeface="Arial"/>
              </a:rPr>
              <a:t>El Pretérito de los verbos –ER, -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do usamos el preteri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verbos regulares que terminan en –ER/ -IR se conjugan de la siguiente 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-ER  / 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0099"/>
                </a:solidFill>
                <a:latin typeface="Arial"/>
              </a:rPr>
              <a:t>-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Ellas U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464280" y="3962520"/>
            <a:ext cx="84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-í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218760" y="4495680"/>
            <a:ext cx="834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-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417480" y="5029200"/>
            <a:ext cx="1035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-ió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23440" y="5562720"/>
            <a:ext cx="1485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-imos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269520" y="6095880"/>
            <a:ext cx="155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-ieron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826600" y="3962520"/>
            <a:ext cx="84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-í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654160" y="4495680"/>
            <a:ext cx="123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-iste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5779800" y="5029200"/>
            <a:ext cx="1035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-ió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5542920" y="5562720"/>
            <a:ext cx="1406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-imo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5539680" y="6095880"/>
            <a:ext cx="155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-ieron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709920" y="1828800"/>
            <a:ext cx="658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Verdana"/>
              </a:rPr>
              <a:t>Usamos el pretérito para expresar una acción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Verdana"/>
              </a:rPr>
              <a:t>empezó y termino en el pasado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9:28:00Z</dcterms:created>
  <dc:creator>Helen Zumaeta</dc:creator>
  <dc:description/>
  <dc:language>en-US</dc:language>
  <cp:lastModifiedBy>Helen Zumaeta</cp:lastModifiedBy>
  <cp:lastPrinted>2016-04-06T20:11:56Z</cp:lastPrinted>
  <dcterms:modified xsi:type="dcterms:W3CDTF">2016-04-08T16:11:16Z</dcterms:modified>
  <cp:revision>18</cp:revision>
  <dc:subject/>
  <dc:title>Me llamo _______               Clase 8 im La fecha es el 6 de diciembre del 2012</dc:title>
</cp:coreProperties>
</file>